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A0D-F2DD-415F-960A-828388E4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3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125600"/>
            <a:ext cx="9053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11DF-21AD-4E82-AA6A-768008EF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7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2240" y="1767960"/>
            <a:ext cx="4417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125600"/>
            <a:ext cx="4417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2240" y="4125600"/>
            <a:ext cx="4417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E36-01D7-4C70-87E8-903D973D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4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767960"/>
            <a:ext cx="2914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5080" y="1767960"/>
            <a:ext cx="2914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125600"/>
            <a:ext cx="2914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125600"/>
            <a:ext cx="2914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5080" y="4125600"/>
            <a:ext cx="2914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6DB8-782C-45D6-ACB3-CBE8C54B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973D-8033-4BCD-BF2F-C6634120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364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3C2C-BB28-484A-B5F0-98B5B1FF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364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BA4B-D30C-4DBA-AC24-ECF64519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79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2240" y="1767960"/>
            <a:ext cx="44179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5CAB-ED27-4C95-B271-AC07C774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29FF-E9A5-4B0F-BF29-3BFC1257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5364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1052-3999-4329-9BC8-2616C23A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7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2240" y="1767960"/>
            <a:ext cx="44179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125600"/>
            <a:ext cx="4417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A6C5-6BE5-49DF-9DC8-246FA0D9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364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8E3-917F-469C-B529-B5079BD8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79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2240" y="1767960"/>
            <a:ext cx="4417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2240" y="4125600"/>
            <a:ext cx="4417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8CC9-9F58-411C-B75E-20C98E83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7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2240" y="1767960"/>
            <a:ext cx="4417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125600"/>
            <a:ext cx="9053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8B46-E5F0-4E84-A0B2-675055D4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3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125600"/>
            <a:ext cx="9053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7897-7AF0-4333-8DAC-FE07F090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7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2240" y="1767960"/>
            <a:ext cx="4417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125600"/>
            <a:ext cx="4417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2240" y="4125600"/>
            <a:ext cx="4417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7F3E-BEE2-4819-BED2-0CBF07A0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4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4000" y="1767960"/>
            <a:ext cx="2914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5080" y="1767960"/>
            <a:ext cx="2914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125600"/>
            <a:ext cx="2914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4000" y="4125600"/>
            <a:ext cx="2914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5080" y="4125600"/>
            <a:ext cx="2914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82D5-8528-46F2-8438-AB33A5F2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364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2D8-F987-4474-AA57-050718D1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79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2240" y="1767960"/>
            <a:ext cx="44179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1A7A-91E2-4299-BF4F-D2479593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D1A-FA17-4408-A7DC-0381C17C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5364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2F78-21B4-4356-81B5-6CC7593C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7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2240" y="1767960"/>
            <a:ext cx="44179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125600"/>
            <a:ext cx="4417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72DE-7468-4E43-AE2D-956CE15B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79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2240" y="1767960"/>
            <a:ext cx="4417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2240" y="4125600"/>
            <a:ext cx="4417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200-168F-4086-9A31-32E003B2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7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2240" y="1767960"/>
            <a:ext cx="44179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125600"/>
            <a:ext cx="9053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39C-9B9A-4148-8F09-874A34E4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0400" cy="12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0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27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48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27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C4634-BCBF-4CF9-84D4-D2DE71A2EA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5364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670800"/>
            <a:ext cx="23302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670800"/>
            <a:ext cx="3178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670800"/>
            <a:ext cx="2330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E2255-488A-4424-A358-9FF8F9BC9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uthors.simonandschuster.com/Rachel-Renee-Russell/49850702/books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videos.simonandschuster.com/Dork-Diaries-Author-Rachel-Renee-Russell/111717743001" TargetMode="External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-36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marL="343080" indent="-324000" algn="ctr">
              <a:lnSpc>
                <a:spcPct val="93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24000" algn="ctr">
              <a:lnSpc>
                <a:spcPct val="93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24000" algn="ctr">
              <a:lnSpc>
                <a:spcPct val="93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59480" y="566640"/>
            <a:ext cx="4114800" cy="225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ff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Rachel Renee Russell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ff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43000" y="4143240"/>
            <a:ext cx="3886200" cy="202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By: Emily Hodge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81200" y="523800"/>
            <a:ext cx="2876400" cy="3362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626080" y="337644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49212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64080" y="1371600"/>
            <a:ext cx="4137120" cy="5514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1371600"/>
            <a:ext cx="4800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chel Renee Russell is a female author who writes the popular “Dork Diaries” ser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8080"/>
                </a:solidFill>
                <a:latin typeface="Times New Roman"/>
              </a:rPr>
              <a:t>What she does</a:t>
            </a: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57200"/>
            <a:ext cx="2743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28600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 before Rachel's 49</a:t>
            </a:r>
            <a:r>
              <a:rPr b="0" lang="en-US" sz="40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irthday her husband stated that he wanted a divorce.,But Rachel considered it an opportunity to pursu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r life long dream: writ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80520"/>
            <a:ext cx="90644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8080"/>
                </a:solidFill>
                <a:latin typeface="Times New Roman"/>
              </a:rPr>
              <a:t>Why She Started Writing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2057400" y="228600"/>
            <a:ext cx="906948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" y="914400"/>
            <a:ext cx="90648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 her Dork Diaries series the main character is 14 year old Nikki Maxwell. Rachel got the idea by her daughter Nikki, who is now 24 years old . Nikki is a character who is trying to find ways to fit into her new school,but runs into problems with the popular Mackenzie Hollis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80520"/>
            <a:ext cx="90644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8080"/>
                </a:solidFill>
                <a:latin typeface="Times New Roman"/>
              </a:rPr>
              <a:t>About The Main Character 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3280" y="345960"/>
            <a:ext cx="906948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" y="457200"/>
            <a:ext cx="90648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Dork Diaries tales from a not so fabulou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Dork Diaries tales from a not so popular party gi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Dork Diaries tales from a not to talented pop st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How to dork your dia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Dork Diaries tales from a not so graceful ice prin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Dork Diaries tales from a not so miss know i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Dork Diaries tales from a not so happy heart br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/>
              </a:rPr>
              <a:t>click here to see where i got all of the books fr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3280" y="380880"/>
            <a:ext cx="906444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8080"/>
                </a:solidFill>
                <a:latin typeface="Times New Roman"/>
                <a:ea typeface="Arial Unicode MS"/>
              </a:rPr>
              <a:t>Books Rachel Wr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3280" y="345960"/>
            <a:ext cx="906948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029200"/>
            <a:ext cx="1828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572000"/>
            <a:ext cx="2057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1116000"/>
            <a:ext cx="2514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685800"/>
            <a:ext cx="114300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438120"/>
            <a:ext cx="133668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80520"/>
            <a:ext cx="9055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Timeline About Rach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3886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29718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886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29718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86800" y="3886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60020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hel was born (date unkn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5029200"/>
            <a:ext cx="13716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hel's first daughter (Nikki) was born in 19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1828800"/>
            <a:ext cx="1371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hel got divorced (date unkn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29600" y="5029200"/>
            <a:ext cx="13716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writing books (again, date unkn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03280" y="345960"/>
            <a:ext cx="906948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54280" y="3660840"/>
            <a:ext cx="35323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lick me for an intervie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80520"/>
            <a:ext cx="9055080" cy="11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A Interview With Rach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rulyamazingwomen.com/the-women/rachel-renee-russell-author-the-dork-d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508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http://videos.simonandschuster.com/Dork-Diaries-Author-Rachel-Renee-Russell/111717743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3:28:15Z</dcterms:created>
  <dc:creator/>
  <dc:description/>
  <dc:language>en-US</dc:language>
  <cp:lastModifiedBy/>
  <cp:revision>1</cp:revision>
  <dc:subject/>
  <dc:title/>
</cp:coreProperties>
</file>